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355-29B9-420F-9041-5B2EF86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438-2068-4EE1-84C9-FB5D0D39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146-8C9A-4801-A4BF-08981C2C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79D-8B7E-48E7-8940-73B7ACC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CC9-4348-4FE2-9352-C0363787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B7C-81BB-4618-B8FE-7AF86FCB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E15-DA35-48EB-B50F-B72A44A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BE4-4A4F-462D-B226-5608D50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510-326E-4C45-8B95-FDC22A3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501-70A3-48DB-80C4-C2E5BAF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FE4-3D85-49A8-9296-8D0FDD0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0B5-49EB-4140-9507-D793B1C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D04FEF9C-9A9B-4143-8735-D682C81E225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7925040" cy="5138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6C2-4CDE-450C-89F5-44578798B3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5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3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C8F-EAFD-457C-ACFC-83E8A2D559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Upd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ndum to the Consortium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by all partners and currently in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to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f Period 1 f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istribution (85%, early in the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of Period 1 (15%, mid-M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2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informa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will distribute 85% in early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BE6-717C-43C6-A278-DD4E763680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finances- SURFne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and ASTRON will be changing some of their financing.  Both organizations will push their SA2 budget directly to SURFnet.  SURFnet has agreed to th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was doing the actual work and expending the money; both JIVE and ASTRON were essentially "men in the middle."  This is due to the fact that SURFnet is both a partner and our N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is providing a great deal of support and work for the project.  This is not evident from a pure financial analysis.  We hope that this change will even some of their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otal, SURFnet will receive 28,000 EUR from JIVE and ASTR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EC4-ABC5-406D-BE18-B95EA3D6E1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32A-88D3-45BE-BE08-D7D0891E3C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873-5C9A-4DF0-8DA5-F70FE2B6C8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30 - 08.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/Welcome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45 - 09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/Changes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 - 09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Annual Review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30 - 09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/ NA4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50 - 10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&lt;J. Conw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5 - 10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&lt;J. Chev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20 - 10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1 &lt;R. Spenc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40 - 11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10 - 11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2 &lt;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40 - 12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&lt;A. Szomor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00 - 12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&lt;F. Col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20 - 13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20 - 14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es + discussion + audit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30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Board meeting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up/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DD2-F0BE-4AA3-971D-A6F1F7B963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Specific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Charles is not going to be presenting in person.  He may be interactive via telephone/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620-B5A8-4329-B562-35337E0FF1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Diana van D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ED5-2A3F-45FF-8141-C75BD2C8DD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bstitu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 Zensus sends Richard Porcas for MP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2A2-EAA7-48A8-A35D-D8155AA4F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bta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represented by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424-8710-4A9C-9537-822F535FAC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CF9-317A-4FBB-BD67-50D188DF0C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shall appoin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ail was sent at the beginning of the calendar year indicating that Huib Jan van Langevelde would be the interim Coordinator for EXP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Non-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for upcoming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B55-EA28-4E7E-8797-4343021279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21T15:06:11Z</dcterms:modified>
  <cp:revision>113</cp:revision>
  <dc:subject/>
  <dc:title>Slide 1</dc:title>
</cp:coreProperties>
</file>